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8.png" ContentType="image/png"/>
  <Override PartName="/ppt/media/image5.gif" ContentType="image/gif"/>
  <Override PartName="/ppt/media/image10.gif" ContentType="image/gif"/>
  <Override PartName="/ppt/media/image6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539-7BDE-43B9-846E-3A2C2C7E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8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A56-58BD-4FB1-B942-4FF966D5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8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8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232-4911-45E9-955B-FAFFE3BA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8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8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8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4B3-CEC3-4C4C-B381-E9E72CDF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B84F-499A-4C5F-886B-2F792239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185E-C40E-4AF3-B02A-33C936F2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DDE6-AA94-49ED-9EE9-C99490D4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1D31-D31E-40C1-AD1D-25A25DDA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C9AF-FAB1-49E0-A34B-9BE731A0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EC22-543A-4DA5-A286-6638FCC0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28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0A27-D380-4788-AEF3-0072A8EF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44D-8448-4831-9563-A9697AD0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28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D5E4-7BB4-4E64-A712-DA5D1AA5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8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4948-FBA2-4D27-91D2-E414E77E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28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53FA-FC92-4B37-8040-F17CA56A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8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28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0909-8C94-4161-9D94-9BE91BDF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28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28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28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42AE-A02E-4ADB-AA7B-60A1F459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C21-F338-45BA-BF75-F5559BFE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B56-413F-4946-B3DB-56C24CD2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069-DDEE-40D8-93CD-50F6040E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761-8CB0-427E-98F6-46702FD7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8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0B6-FB43-4E4D-8065-3F3765CA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8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B94-41CB-43B3-8490-CE296DFF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8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AC6-4AFF-4D0F-92BE-0892C92F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79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E879-B3FB-4984-B95E-5D36BD8A1FD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197000"/>
            <a:ext cx="9216720" cy="263520"/>
            <a:chOff x="0" y="1197000"/>
            <a:chExt cx="9216720" cy="263520"/>
          </a:xfrm>
        </p:grpSpPr>
        <p:pic>
          <p:nvPicPr>
            <p:cNvPr id="7" name="" descr=""/>
            <p:cNvPicPr/>
            <p:nvPr/>
          </p:nvPicPr>
          <p:blipFill>
            <a:blip r:embed="rId5"/>
            <a:stretch/>
          </p:blipFill>
          <p:spPr>
            <a:xfrm>
              <a:off x="0" y="1247760"/>
              <a:ext cx="921672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6"/>
            <a:stretch/>
          </p:blipFill>
          <p:spPr>
            <a:xfrm>
              <a:off x="6192720" y="1197000"/>
              <a:ext cx="2448000" cy="26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8360" y="1359360"/>
            <a:ext cx="7847280" cy="1404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8FAC-F82E-42B1-B6E8-CB01BB22BC3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48360" y="1359360"/>
            <a:ext cx="7847280" cy="1404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Arial"/>
              </a:rPr>
              <a:t>工廠從事物品製造加工範圍及面積電力容量熱能規模認定標準簡報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a50021"/>
                </a:solidFill>
                <a:latin typeface="Arial"/>
              </a:rPr>
              <a:t>報告人：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a50021"/>
                </a:solidFill>
                <a:latin typeface="Arial"/>
              </a:rPr>
              <a:t>經濟部中部辦公室　趙仁堅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a50021"/>
                </a:solidFill>
                <a:latin typeface="Arial"/>
              </a:rPr>
              <a:t>中華民國</a:t>
            </a:r>
            <a:r>
              <a:rPr b="1" lang="zh-TW" sz="3200" spc="-1" strike="noStrike">
                <a:solidFill>
                  <a:srgbClr val="a50021"/>
                </a:solidFill>
                <a:latin typeface="Arial"/>
              </a:rPr>
              <a:t>100</a:t>
            </a:r>
            <a:r>
              <a:rPr b="1" lang="zh-TW" sz="3200" spc="-1" strike="noStrike">
                <a:solidFill>
                  <a:srgbClr val="a50021"/>
                </a:solidFill>
                <a:latin typeface="Arial"/>
              </a:rPr>
              <a:t>年</a:t>
            </a:r>
            <a:r>
              <a:rPr b="1" lang="zh-TW" sz="32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zh-TW" sz="3200" spc="-1" strike="noStrike">
                <a:solidFill>
                  <a:srgbClr val="a50021"/>
                </a:solidFill>
                <a:latin typeface="Arial"/>
              </a:rPr>
              <a:t>月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BADC-68B1-4FBD-B05E-075FD9B85F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伍、工廠範圍、規模認定標準變動之處置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情況二：緊縮工廠範圍認定標準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因第二條從事物品製造、加工之範圍修正，致已取得設立許可或登記之工廠，依修正後之認定標準非為工廠範圍者，由主管機關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逕為廢止工廠設立許可或登記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。但應於作成行政處分前，給予業者陳述意見之機會。主管機關為前項廢止工廠設立許可或登記之處分，應以書面為之。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【第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條】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168-5371-48A4-9269-22226E8DC2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伍、工廠範圍、規模認定標準變動之處置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情況三：緊縮工廠規模認定標準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因第三條工廠規模之認定標準修正，已取得設立許可或核准登記之工廠，依修正後認定標準非屬工廠規模者，業者得向主管機關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申請廢止工廠設立許可或登記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前項業者未完成廢止工廠設立許可或登記前，該工廠設立許可或登記仍有效力，主管機關應依本法管理之。主管機關知悉第一項情形時，得通知業者申請廢止工廠設立許可或登記。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【第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6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條】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19A-659C-4A9C-BD35-A57441F53A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37628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319480" y="1916280"/>
            <a:ext cx="4505040" cy="273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標楷體"/>
              </a:rPr>
              <a:t>謝謝聆聽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標楷體"/>
              <a:ea typeface="標楷體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0" y="3716280"/>
            <a:ext cx="1084320" cy="1582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309840" y="3645000"/>
            <a:ext cx="1262160" cy="17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59E-E765-434E-9E55-4DFF991069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</a:rPr>
              <a:t>簡報大綱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壹、依據與發布施行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貳、工廠定義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參、工廠範圍及規模認定標準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肆、工廠範圍及規模與工廠登記之關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伍、工廠範圍規模認定標準變動之處置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3B0-2104-4E18-B24A-B83F99BACE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</a:rPr>
              <a:t>壹、依據與發布施行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依據：依工廠管理輔導法第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條第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項：前項所稱從事物品製造、加工之範圍、一定面積及一定電力容量、熱能之認定標準，由中央主管機關定之。爰於訂定「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工廠從事物品製造加工範圍及面積電力容量熱能規模認定標準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」。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【第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條】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發布與施行：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99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日經濟部經中字第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09904607830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號令訂定發布並自發布日施行。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【第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條】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8E5-21B7-4684-9266-9AAECB8D18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</a:rPr>
              <a:t>貳、工廠定義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本法所稱工廠，指有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Arial"/>
              </a:rPr>
              <a:t>固定場所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從事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Arial"/>
              </a:rPr>
              <a:t>物品製造、加工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，其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Arial"/>
              </a:rPr>
              <a:t>廠房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達一定面積，或其生產設備達一定電力容量、熱能者。</a:t>
            </a:r>
            <a:r>
              <a:rPr b="1" lang="zh-TW" sz="2000" spc="-1" strike="noStrike">
                <a:solidFill>
                  <a:srgbClr val="a50021"/>
                </a:solidFill>
                <a:latin typeface="Arial"/>
              </a:rPr>
              <a:t>【工廠管理輔導法第</a:t>
            </a:r>
            <a:r>
              <a:rPr b="1" lang="zh-TW" sz="20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zh-TW" sz="2000" spc="-1" strike="noStrike">
                <a:solidFill>
                  <a:srgbClr val="a50021"/>
                </a:solidFill>
                <a:latin typeface="Arial"/>
              </a:rPr>
              <a:t>條第</a:t>
            </a:r>
            <a:r>
              <a:rPr b="1" lang="zh-TW" sz="20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TW" sz="2000" spc="-1" strike="noStrike">
                <a:solidFill>
                  <a:srgbClr val="a50021"/>
                </a:solidFill>
                <a:latin typeface="Arial"/>
              </a:rPr>
              <a:t>項】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85880" indent="-328680"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固定場所：指被持續利用以從事物品製造、加工業務之場所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85880" indent="-328680"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物品製造、加工：指以機械、物理或化學方法，將有機或無機物質轉變成新產品者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85880" indent="-328680">
              <a:spcBef>
                <a:spcPts val="499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廠房：指供從事物品製造、加工作業使用之建築物。</a:t>
            </a:r>
            <a:r>
              <a:rPr b="1" lang="zh-TW" sz="2000" spc="-1" strike="noStrike">
                <a:solidFill>
                  <a:srgbClr val="a50021"/>
                </a:solidFill>
                <a:latin typeface="Arial"/>
              </a:rPr>
              <a:t>【工廠管理輔導法施行細則第</a:t>
            </a:r>
            <a:r>
              <a:rPr b="1" lang="zh-TW" sz="20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zh-TW" sz="2000" spc="-1" strike="noStrike">
                <a:solidFill>
                  <a:srgbClr val="a50021"/>
                </a:solidFill>
                <a:latin typeface="Arial"/>
              </a:rPr>
              <a:t>條】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238-02A5-4FA5-B449-4E3B698A16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</a:rPr>
              <a:t>參、工廠範圍及規模認定標準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工廠從事物品製造、加工範圍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認定原則：以行政院主計處編印之中華民國行業標準分類之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大類製造業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之中類，自第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類食品製造業至第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33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類其他製造業。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【第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條第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項第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款前段】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認定標準：屬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大類製造業，但排除部分非從事物品製造、加工之行業；加入部分非屬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大類製造業，但從事物品製造、加工之行業。</a:t>
            </a:r>
            <a:r>
              <a:rPr b="1" lang="zh-TW" sz="1600" spc="-1" strike="noStrike">
                <a:solidFill>
                  <a:srgbClr val="a50021"/>
                </a:solidFill>
                <a:latin typeface="標楷體"/>
              </a:rPr>
              <a:t>【第</a:t>
            </a:r>
            <a:r>
              <a:rPr b="1" lang="zh-TW" sz="1600" spc="-1" strike="noStrike">
                <a:solidFill>
                  <a:srgbClr val="a50021"/>
                </a:solidFill>
                <a:latin typeface="標楷體"/>
              </a:rPr>
              <a:t>2</a:t>
            </a:r>
            <a:r>
              <a:rPr b="1" lang="zh-TW" sz="1600" spc="-1" strike="noStrike">
                <a:solidFill>
                  <a:srgbClr val="a50021"/>
                </a:solidFill>
                <a:latin typeface="標楷體"/>
              </a:rPr>
              <a:t>條第</a:t>
            </a:r>
            <a:r>
              <a:rPr b="1" lang="zh-TW" sz="1600" spc="-1" strike="noStrike">
                <a:solidFill>
                  <a:srgbClr val="a50021"/>
                </a:solidFill>
                <a:latin typeface="標楷體"/>
              </a:rPr>
              <a:t>1</a:t>
            </a:r>
            <a:r>
              <a:rPr b="1" lang="zh-TW" sz="1600" spc="-1" strike="noStrike">
                <a:solidFill>
                  <a:srgbClr val="a50021"/>
                </a:solidFill>
                <a:latin typeface="標楷體"/>
              </a:rPr>
              <a:t>項第</a:t>
            </a:r>
            <a:r>
              <a:rPr b="1" lang="zh-TW" sz="1600" spc="-1" strike="noStrike">
                <a:solidFill>
                  <a:srgbClr val="a50021"/>
                </a:solidFill>
                <a:latin typeface="標楷體"/>
              </a:rPr>
              <a:t>1</a:t>
            </a:r>
            <a:r>
              <a:rPr b="1" lang="zh-TW" sz="1600" spc="-1" strike="noStrike">
                <a:solidFill>
                  <a:srgbClr val="a50021"/>
                </a:solidFill>
                <a:latin typeface="標楷體"/>
              </a:rPr>
              <a:t>、</a:t>
            </a:r>
            <a:r>
              <a:rPr b="1" lang="zh-TW" sz="1600" spc="-1" strike="noStrike">
                <a:solidFill>
                  <a:srgbClr val="a50021"/>
                </a:solidFill>
                <a:latin typeface="標楷體"/>
              </a:rPr>
              <a:t>2</a:t>
            </a:r>
            <a:r>
              <a:rPr b="1" lang="zh-TW" sz="1600" spc="-1" strike="noStrike">
                <a:solidFill>
                  <a:srgbClr val="a50021"/>
                </a:solidFill>
                <a:latin typeface="標楷體"/>
              </a:rPr>
              <a:t>款】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工廠廠房一定面積及生產設備一定電力容量、熱能規模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之認定標準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一定面積：廠房面積達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平方公尺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以上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一定電力容量、熱能：生產設備馬力與電熱合計達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2.25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千瓦</a:t>
            </a:r>
            <a:r>
              <a:rPr b="1" lang="zh-TW" sz="2400" spc="-1" strike="noStrike">
                <a:solidFill>
                  <a:srgbClr val="0000ff"/>
                </a:solidFill>
                <a:latin typeface="Arial"/>
              </a:rPr>
              <a:t>以上。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【第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zh-TW" sz="1600" spc="-1" strike="noStrike">
                <a:solidFill>
                  <a:srgbClr val="a50021"/>
                </a:solidFill>
                <a:latin typeface="Arial"/>
              </a:rPr>
              <a:t>條】</a:t>
            </a:r>
            <a:endParaRPr b="1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B7C-60FD-421C-879B-E2315B2E98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肆、工廠範圍及規模與工廠登記之關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屬從事物品製造、加工範圍之行業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廠房面積或生產設備電力容量、熱能達一定規模：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須辦理工廠登記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廠房面積及生產設備電力容量、熱能未達一定規模：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得免辦理工廠登記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。 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【工廠管理輔導法第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條第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項】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非屬從事物品製造、加工範圍之行業：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</a:rPr>
              <a:t>無需辦理工廠登記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7D9-F885-4C76-A42E-56652AFA28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肆、工廠範圍及規模與工廠登記之關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7280" y="2276640"/>
            <a:ext cx="8569440" cy="351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4A8-ACF0-431E-8E09-6E696BA977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2637000"/>
            <a:ext cx="8642160" cy="3720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肆、工廠範圍及規模與工廠登記之關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46560" y="2805120"/>
            <a:ext cx="4502160" cy="33606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781360"/>
            <a:ext cx="4392720" cy="345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2080" y="3070080"/>
            <a:ext cx="1708560" cy="57636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屬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C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大類製造業，但非屬從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物品製造、加工範圍之行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67200" y="3070080"/>
            <a:ext cx="1624320" cy="57636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非屬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C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大類製造業，但屬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事物品製造、加工範圍之行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76800" y="3645000"/>
            <a:ext cx="755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1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屠宰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1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在同一門牌範圍內從事麵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　、麵條、豆腐或糖果之製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　零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1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從事土石方資源堆置場業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1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僅從事物品之分裝、包裝、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　測、測試、滅菌、消毒、冷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　、冷凍、修理或維修安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716280"/>
            <a:ext cx="1008000" cy="14706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470600"/>
              <a:gd name="textAreaBottom" fmla="*/ 1421640 h 1470600"/>
            </a:gdLst>
            <a:ahLst/>
            <a:rect l="textAreaLeft" t="textAreaTop" r="textAreaRight" b="textAreaBottom"/>
            <a:pathLst>
              <a:path w="21600" h="31509">
                <a:moveTo>
                  <a:pt x="3600" y="0"/>
                </a:moveTo>
                <a:arcTo wR="3600" hR="3600" stAng="16200000" swAng="-5400000"/>
                <a:lnTo>
                  <a:pt x="0" y="27909"/>
                </a:lnTo>
                <a:arcTo wR="3600" hR="3600" stAng="10800000" swAng="-5400000"/>
                <a:lnTo>
                  <a:pt x="18000" y="315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屬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C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大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製造業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屬從事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品製造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加工範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之行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94000" y="3645000"/>
            <a:ext cx="2058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1.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從事資源回收製造加工生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新產品者。但不包括僅將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棄物進行簡單之拆解、分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、破碎、壓縮或包裝程序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2.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醫用氣體之生產流程，係由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　液態產品經由泵浦增壓，再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　蒸發器升溫氣化為常溫而灌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　至鋼瓶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3.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以汽電共生系統生產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汽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rot="5411400">
            <a:off x="5902560" y="2300760"/>
            <a:ext cx="649080" cy="793800"/>
          </a:xfrm>
          <a:custGeom>
            <a:avLst/>
            <a:gdLst>
              <a:gd name="textAreaLeft" fmla="*/ 100800 w 649080"/>
              <a:gd name="textAreaRight" fmla="*/ 538560 w 649080"/>
              <a:gd name="textAreaTop" fmla="*/ 211320 h 793800"/>
              <a:gd name="textAreaBottom" fmla="*/ 582480 h 793800"/>
            </a:gdLst>
            <a:ahLst/>
            <a:rect l="textAreaLeft" t="textAreaTop" r="textAreaRight" b="textAreaBottom"/>
            <a:pathLst>
              <a:path w="21600" h="21600">
                <a:moveTo>
                  <a:pt x="3375" y="5754"/>
                </a:moveTo>
                <a:lnTo>
                  <a:pt x="13747" y="5754"/>
                </a:lnTo>
                <a:lnTo>
                  <a:pt x="13747" y="0"/>
                </a:lnTo>
                <a:lnTo>
                  <a:pt x="21600" y="10800"/>
                </a:lnTo>
                <a:lnTo>
                  <a:pt x="13747" y="21600"/>
                </a:lnTo>
                <a:lnTo>
                  <a:pt x="13747" y="15846"/>
                </a:lnTo>
                <a:lnTo>
                  <a:pt x="3375" y="15846"/>
                </a:lnTo>
                <a:close/>
              </a:path>
              <a:path w="21600" h="21600">
                <a:moveTo>
                  <a:pt x="0" y="5754"/>
                </a:moveTo>
                <a:lnTo>
                  <a:pt x="675" y="5754"/>
                </a:lnTo>
                <a:lnTo>
                  <a:pt x="675" y="15846"/>
                </a:lnTo>
                <a:lnTo>
                  <a:pt x="0" y="15846"/>
                </a:lnTo>
                <a:close/>
              </a:path>
              <a:path w="21600" h="21600">
                <a:moveTo>
                  <a:pt x="1350" y="5754"/>
                </a:moveTo>
                <a:lnTo>
                  <a:pt x="2700" y="5754"/>
                </a:lnTo>
                <a:lnTo>
                  <a:pt x="2700" y="15846"/>
                </a:lnTo>
                <a:lnTo>
                  <a:pt x="1350" y="1584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19640" y="1581120"/>
            <a:ext cx="3457440" cy="792360"/>
          </a:xfrm>
          <a:prstGeom prst="flowChartAlternate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屬從事物品製造、加工範圍之行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如達一定規模，須辦理工廠登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如未達一定規模，得免辦理工廠登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9280" y="1581120"/>
            <a:ext cx="2808000" cy="792360"/>
          </a:xfrm>
          <a:prstGeom prst="flowChartAlternate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非屬從事物品製造、加工範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之行業</a:t>
            </a:r>
            <a:r>
              <a:rPr b="1" lang="zh-TW" sz="1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無需辦理工廠登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rot="5411400">
            <a:off x="493560" y="2302560"/>
            <a:ext cx="649440" cy="793800"/>
          </a:xfrm>
          <a:custGeom>
            <a:avLst/>
            <a:gdLst>
              <a:gd name="textAreaLeft" fmla="*/ 101520 w 649440"/>
              <a:gd name="textAreaRight" fmla="*/ 539280 w 649440"/>
              <a:gd name="textAreaTop" fmla="*/ 211320 h 793800"/>
              <a:gd name="textAreaBottom" fmla="*/ 582480 h 793800"/>
            </a:gdLst>
            <a:ahLst/>
            <a:rect l="textAreaLeft" t="textAreaTop" r="textAreaRight" b="textAreaBottom"/>
            <a:pathLst>
              <a:path w="21600" h="21600">
                <a:moveTo>
                  <a:pt x="3375" y="5754"/>
                </a:moveTo>
                <a:lnTo>
                  <a:pt x="13747" y="5754"/>
                </a:lnTo>
                <a:lnTo>
                  <a:pt x="13747" y="0"/>
                </a:lnTo>
                <a:lnTo>
                  <a:pt x="21600" y="10800"/>
                </a:lnTo>
                <a:lnTo>
                  <a:pt x="13747" y="21600"/>
                </a:lnTo>
                <a:lnTo>
                  <a:pt x="13747" y="15846"/>
                </a:lnTo>
                <a:lnTo>
                  <a:pt x="3375" y="15846"/>
                </a:lnTo>
                <a:close/>
              </a:path>
              <a:path w="21600" h="21600">
                <a:moveTo>
                  <a:pt x="0" y="5754"/>
                </a:moveTo>
                <a:lnTo>
                  <a:pt x="675" y="5754"/>
                </a:lnTo>
                <a:lnTo>
                  <a:pt x="675" y="15846"/>
                </a:lnTo>
                <a:lnTo>
                  <a:pt x="0" y="15846"/>
                </a:lnTo>
                <a:close/>
              </a:path>
              <a:path w="21600" h="21600">
                <a:moveTo>
                  <a:pt x="1350" y="5754"/>
                </a:moveTo>
                <a:lnTo>
                  <a:pt x="2700" y="5754"/>
                </a:lnTo>
                <a:lnTo>
                  <a:pt x="2700" y="15846"/>
                </a:lnTo>
                <a:lnTo>
                  <a:pt x="1350" y="1584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rot="5411400">
            <a:off x="2878200" y="2300760"/>
            <a:ext cx="649080" cy="793800"/>
          </a:xfrm>
          <a:custGeom>
            <a:avLst/>
            <a:gdLst>
              <a:gd name="textAreaLeft" fmla="*/ 100800 w 649080"/>
              <a:gd name="textAreaRight" fmla="*/ 538560 w 649080"/>
              <a:gd name="textAreaTop" fmla="*/ 211320 h 793800"/>
              <a:gd name="textAreaBottom" fmla="*/ 582480 h 793800"/>
            </a:gdLst>
            <a:ahLst/>
            <a:rect l="textAreaLeft" t="textAreaTop" r="textAreaRight" b="textAreaBottom"/>
            <a:pathLst>
              <a:path w="21600" h="21600">
                <a:moveTo>
                  <a:pt x="3375" y="5754"/>
                </a:moveTo>
                <a:lnTo>
                  <a:pt x="13747" y="5754"/>
                </a:lnTo>
                <a:lnTo>
                  <a:pt x="13747" y="0"/>
                </a:lnTo>
                <a:lnTo>
                  <a:pt x="21600" y="10800"/>
                </a:lnTo>
                <a:lnTo>
                  <a:pt x="13747" y="21600"/>
                </a:lnTo>
                <a:lnTo>
                  <a:pt x="13747" y="15846"/>
                </a:lnTo>
                <a:lnTo>
                  <a:pt x="3375" y="15846"/>
                </a:lnTo>
                <a:close/>
              </a:path>
              <a:path w="21600" h="21600">
                <a:moveTo>
                  <a:pt x="0" y="5754"/>
                </a:moveTo>
                <a:lnTo>
                  <a:pt x="675" y="5754"/>
                </a:lnTo>
                <a:lnTo>
                  <a:pt x="675" y="15846"/>
                </a:lnTo>
                <a:lnTo>
                  <a:pt x="0" y="15846"/>
                </a:lnTo>
                <a:close/>
              </a:path>
              <a:path w="21600" h="21600">
                <a:moveTo>
                  <a:pt x="1350" y="5754"/>
                </a:moveTo>
                <a:lnTo>
                  <a:pt x="2700" y="5754"/>
                </a:lnTo>
                <a:lnTo>
                  <a:pt x="2700" y="15846"/>
                </a:lnTo>
                <a:lnTo>
                  <a:pt x="1350" y="1584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rot="5411400">
            <a:off x="4388040" y="2551680"/>
            <a:ext cx="1154160" cy="793800"/>
          </a:xfrm>
          <a:custGeom>
            <a:avLst/>
            <a:gdLst>
              <a:gd name="textAreaLeft" fmla="*/ 180720 w 1154160"/>
              <a:gd name="textAreaRight" fmla="*/ 958680 w 1154160"/>
              <a:gd name="textAreaTop" fmla="*/ 211320 h 793800"/>
              <a:gd name="textAreaBottom" fmla="*/ 582480 h 793800"/>
            </a:gdLst>
            <a:ahLst/>
            <a:rect l="textAreaLeft" t="textAreaTop" r="textAreaRight" b="textAreaBottom"/>
            <a:pathLst>
              <a:path w="21600" h="21600">
                <a:moveTo>
                  <a:pt x="3375" y="5754"/>
                </a:moveTo>
                <a:lnTo>
                  <a:pt x="13747" y="5754"/>
                </a:lnTo>
                <a:lnTo>
                  <a:pt x="13747" y="0"/>
                </a:lnTo>
                <a:lnTo>
                  <a:pt x="21600" y="10800"/>
                </a:lnTo>
                <a:lnTo>
                  <a:pt x="13747" y="21600"/>
                </a:lnTo>
                <a:lnTo>
                  <a:pt x="13747" y="15846"/>
                </a:lnTo>
                <a:lnTo>
                  <a:pt x="3375" y="15846"/>
                </a:lnTo>
                <a:close/>
              </a:path>
              <a:path w="21600" h="21600">
                <a:moveTo>
                  <a:pt x="0" y="5754"/>
                </a:moveTo>
                <a:lnTo>
                  <a:pt x="675" y="5754"/>
                </a:lnTo>
                <a:lnTo>
                  <a:pt x="675" y="15846"/>
                </a:lnTo>
                <a:lnTo>
                  <a:pt x="0" y="15846"/>
                </a:lnTo>
                <a:close/>
              </a:path>
              <a:path w="21600" h="21600">
                <a:moveTo>
                  <a:pt x="1350" y="5754"/>
                </a:moveTo>
                <a:lnTo>
                  <a:pt x="2700" y="5754"/>
                </a:lnTo>
                <a:lnTo>
                  <a:pt x="2700" y="15846"/>
                </a:lnTo>
                <a:lnTo>
                  <a:pt x="1350" y="1584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10040" y="64911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行政院主計處編印之中華民國行業標準分類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1600" y="2544120"/>
            <a:ext cx="739080" cy="3695400"/>
          </a:xfrm>
          <a:custGeom>
            <a:avLst/>
            <a:gdLst>
              <a:gd name="textAreaLeft" fmla="*/ 36000 w 739080"/>
              <a:gd name="textAreaRight" fmla="*/ 703080 w 739080"/>
              <a:gd name="textAreaTop" fmla="*/ 36000 h 3695400"/>
              <a:gd name="textAreaBottom" fmla="*/ 3659400 h 3695400"/>
            </a:gdLst>
            <a:ahLst/>
            <a:rect l="textAreaLeft" t="textAreaTop" r="textAreaRight" b="textAreaBottom"/>
            <a:pathLst>
              <a:path w="21600" h="107958">
                <a:moveTo>
                  <a:pt x="3600" y="0"/>
                </a:moveTo>
                <a:arcTo wR="3600" hR="3600" stAng="16200000" swAng="-5400000"/>
                <a:lnTo>
                  <a:pt x="0" y="104358"/>
                </a:lnTo>
                <a:arcTo wR="3600" hR="3600" stAng="10800000" swAng="-5400000"/>
                <a:lnTo>
                  <a:pt x="18000" y="1079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非屬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C</a:t>
            </a: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大類製造業亦非屬從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物品製造、加工範圍之行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6021360"/>
            <a:ext cx="1152360" cy="504720"/>
          </a:xfrm>
          <a:prstGeom prst="wedgeRoundRectCallout">
            <a:avLst>
              <a:gd name="adj1" fmla="val 89944"/>
              <a:gd name="adj2" fmla="val -89310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屬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C</a:t>
            </a: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大類製造業之行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77080" y="6165720"/>
            <a:ext cx="1798560" cy="503280"/>
          </a:xfrm>
          <a:prstGeom prst="wedgeRoundRectCallout">
            <a:avLst>
              <a:gd name="adj1" fmla="val -56972"/>
              <a:gd name="adj2" fmla="val -95425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屬從事物品製造、加工範圍之行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34B-0A3E-478A-8926-0729CA70D6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</a:rPr>
              <a:t>伍、工廠範圍、規模認定標準變動之處置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情況一：放寬工廠範圍或規模認定標準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因前二條之修正，致工廠從事物品製造、加工範圍或一定面積與一定電力容量、熱能規模之認定標準變更時，原非工廠範圍或規模之業者，依修正後之範圍或規模之認定標準應辦理工廠設立許可或登記者，應於其修正施行之次日起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</a:rPr>
              <a:t>二年內</a:t>
            </a:r>
            <a:r>
              <a:rPr b="1" lang="zh-TW" sz="2800" spc="-1" strike="noStrike">
                <a:solidFill>
                  <a:srgbClr val="0000ff"/>
                </a:solidFill>
                <a:latin typeface="Arial"/>
              </a:rPr>
              <a:t>，依本法規定，補辦完成之。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【第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zh-TW" sz="1800" spc="-1" strike="noStrike">
                <a:solidFill>
                  <a:srgbClr val="a50021"/>
                </a:solidFill>
                <a:latin typeface="Arial"/>
              </a:rPr>
              <a:t>條】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3FB-59F6-4CF4-B02C-3AEF69B3BE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3:40:56Z</dcterms:created>
  <dc:creator>YIUI</dc:creator>
  <dc:description/>
  <dc:language>en-US</dc:language>
  <cp:lastModifiedBy>YIUI</cp:lastModifiedBy>
  <dcterms:modified xsi:type="dcterms:W3CDTF">2011-05-15T00:34:51Z</dcterms:modified>
  <cp:revision>29</cp:revision>
  <dc:subject/>
  <dc:title>工廠從事物品製造加工範圍及面積電力容量熱能規模認定標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50749001</vt:r8>
  </property>
  <property fmtid="{D5CDD505-2E9C-101B-9397-08002B2CF9AE}" pid="3" name="_AuthorEmail">
    <vt:lpwstr>chao@mail.cto.moea.gov.tw</vt:lpwstr>
  </property>
  <property fmtid="{D5CDD505-2E9C-101B-9397-08002B2CF9AE}" pid="4" name="_AuthorEmailDisplayName">
    <vt:lpwstr>chao</vt:lpwstr>
  </property>
  <property fmtid="{D5CDD505-2E9C-101B-9397-08002B2CF9AE}" pid="5" name="_EmailSubject">
    <vt:lpwstr/>
  </property>
</Properties>
</file>