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4C91-153B-4BC9-9BC9-7495CC15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E897-4184-4C8C-BD1E-2B3C7DF4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E5A3-FDBA-49A2-A25E-37DB7CD2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DDF5-F8AB-451E-9E86-8D503D9A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4614-6353-4CE2-8F1B-33C94E47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CC72-30D2-4899-9940-5EDBDB19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FF42-DDE5-4E63-82BD-B932D29A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C4E2-C1E8-4ED0-9D4E-079AA776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BE73-03AE-47D5-823F-5F2088CA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5E73-0732-439C-B288-85CCF10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7F0E-E91B-4E59-8E08-77EF4DA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6F0E-172D-4D57-A2BE-686DC21B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345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250920" y="981000"/>
            <a:ext cx="8892720" cy="215640"/>
            <a:chOff x="250920" y="981000"/>
            <a:chExt cx="8892720" cy="215640"/>
          </a:xfrm>
        </p:grpSpPr>
        <p:sp>
          <p:nvSpPr>
            <p:cNvPr id="8" name="Rectangle 10"/>
            <p:cNvSpPr/>
            <p:nvPr/>
          </p:nvSpPr>
          <p:spPr>
            <a:xfrm>
              <a:off x="250920" y="981000"/>
              <a:ext cx="4389840" cy="215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640760" y="981000"/>
              <a:ext cx="4502880" cy="21564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2"/>
          <p:cNvSpPr/>
          <p:nvPr/>
        </p:nvSpPr>
        <p:spPr>
          <a:xfrm>
            <a:off x="287280" y="692280"/>
            <a:ext cx="65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lbertus Extra Bold"/>
                <a:ea typeface="華康楷書體W6"/>
              </a:rPr>
              <a:t>ID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287280" y="189000"/>
            <a:ext cx="684000" cy="475920"/>
            <a:chOff x="287280" y="189000"/>
            <a:chExt cx="684000" cy="475920"/>
          </a:xfrm>
        </p:grpSpPr>
        <p:sp>
          <p:nvSpPr>
            <p:cNvPr id="12" name="Freeform 14"/>
            <p:cNvSpPr/>
            <p:nvPr/>
          </p:nvSpPr>
          <p:spPr>
            <a:xfrm>
              <a:off x="287280" y="189000"/>
              <a:ext cx="509400" cy="4726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239" h="299">
                  <a:moveTo>
                    <a:pt x="238" y="0"/>
                  </a:moveTo>
                  <a:lnTo>
                    <a:pt x="79" y="1"/>
                  </a:lnTo>
                  <a:lnTo>
                    <a:pt x="0" y="147"/>
                  </a:lnTo>
                  <a:lnTo>
                    <a:pt x="78" y="298"/>
                  </a:lnTo>
                  <a:lnTo>
                    <a:pt x="78" y="277"/>
                  </a:lnTo>
                  <a:lnTo>
                    <a:pt x="80" y="263"/>
                  </a:lnTo>
                  <a:lnTo>
                    <a:pt x="82" y="240"/>
                  </a:lnTo>
                  <a:lnTo>
                    <a:pt x="87" y="220"/>
                  </a:lnTo>
                  <a:lnTo>
                    <a:pt x="88" y="215"/>
                  </a:lnTo>
                  <a:lnTo>
                    <a:pt x="92" y="201"/>
                  </a:lnTo>
                  <a:lnTo>
                    <a:pt x="96" y="188"/>
                  </a:lnTo>
                  <a:lnTo>
                    <a:pt x="99" y="179"/>
                  </a:lnTo>
                  <a:lnTo>
                    <a:pt x="103" y="170"/>
                  </a:lnTo>
                  <a:lnTo>
                    <a:pt x="102" y="173"/>
                  </a:lnTo>
                  <a:lnTo>
                    <a:pt x="106" y="163"/>
                  </a:lnTo>
                  <a:lnTo>
                    <a:pt x="111" y="152"/>
                  </a:lnTo>
                  <a:lnTo>
                    <a:pt x="121" y="130"/>
                  </a:lnTo>
                  <a:lnTo>
                    <a:pt x="137" y="105"/>
                  </a:lnTo>
                  <a:lnTo>
                    <a:pt x="156" y="80"/>
                  </a:lnTo>
                  <a:lnTo>
                    <a:pt x="183" y="48"/>
                  </a:lnTo>
                  <a:lnTo>
                    <a:pt x="204" y="29"/>
                  </a:lnTo>
                  <a:lnTo>
                    <a:pt x="238" y="0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86080" y="189000"/>
              <a:ext cx="385200" cy="4759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83" h="301">
                  <a:moveTo>
                    <a:pt x="100" y="300"/>
                  </a:moveTo>
                  <a:lnTo>
                    <a:pt x="182" y="151"/>
                  </a:lnTo>
                  <a:lnTo>
                    <a:pt x="101" y="0"/>
                  </a:lnTo>
                  <a:lnTo>
                    <a:pt x="93" y="11"/>
                  </a:lnTo>
                  <a:lnTo>
                    <a:pt x="79" y="31"/>
                  </a:lnTo>
                  <a:lnTo>
                    <a:pt x="68" y="51"/>
                  </a:lnTo>
                  <a:lnTo>
                    <a:pt x="59" y="68"/>
                  </a:lnTo>
                  <a:lnTo>
                    <a:pt x="48" y="88"/>
                  </a:lnTo>
                  <a:lnTo>
                    <a:pt x="36" y="111"/>
                  </a:lnTo>
                  <a:lnTo>
                    <a:pt x="26" y="135"/>
                  </a:lnTo>
                  <a:lnTo>
                    <a:pt x="16" y="164"/>
                  </a:lnTo>
                  <a:lnTo>
                    <a:pt x="7" y="194"/>
                  </a:lnTo>
                  <a:lnTo>
                    <a:pt x="4" y="216"/>
                  </a:lnTo>
                  <a:lnTo>
                    <a:pt x="1" y="233"/>
                  </a:lnTo>
                  <a:lnTo>
                    <a:pt x="1" y="252"/>
                  </a:lnTo>
                  <a:lnTo>
                    <a:pt x="0" y="278"/>
                  </a:lnTo>
                  <a:lnTo>
                    <a:pt x="0" y="300"/>
                  </a:lnTo>
                  <a:lnTo>
                    <a:pt x="100" y="300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55087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6600" y="1690560"/>
            <a:ext cx="909180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480" y="3557520"/>
            <a:ext cx="576000" cy="6699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103400" y="1676520"/>
            <a:ext cx="576000" cy="642960"/>
          </a:xfrm>
          <a:prstGeom prst="rect">
            <a:avLst/>
          </a:prstGeom>
          <a:solidFill>
            <a:srgbClr val="d7d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28480" y="3568680"/>
            <a:ext cx="586080" cy="6415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668600" y="1676520"/>
            <a:ext cx="587160" cy="6429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103400" y="2309760"/>
            <a:ext cx="576000" cy="63360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480" y="2924280"/>
            <a:ext cx="576000" cy="644400"/>
          </a:xfrm>
          <a:prstGeom prst="rect">
            <a:avLst/>
          </a:prstGeom>
          <a:solidFill>
            <a:srgbClr val="d7d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28480" y="2933640"/>
            <a:ext cx="586080" cy="6447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0" y="1682640"/>
            <a:ext cx="584280" cy="633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517680" y="1673280"/>
            <a:ext cx="598320" cy="7920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9360" y="2298600"/>
            <a:ext cx="508320" cy="6336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8" descr="經濟部標準圖"/>
          <p:cNvPicPr/>
          <p:nvPr/>
        </p:nvPicPr>
        <p:blipFill>
          <a:blip r:embed="rId2"/>
          <a:stretch/>
        </p:blipFill>
        <p:spPr>
          <a:xfrm>
            <a:off x="0" y="0"/>
            <a:ext cx="1981080" cy="6318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9"/>
          <p:cNvSpPr/>
          <p:nvPr/>
        </p:nvSpPr>
        <p:spPr>
          <a:xfrm>
            <a:off x="515880" y="2309760"/>
            <a:ext cx="600120" cy="633600"/>
          </a:xfrm>
          <a:prstGeom prst="rect">
            <a:avLst/>
          </a:prstGeom>
          <a:solidFill>
            <a:srgbClr val="d7d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aste1.epa.gov.tw/iwms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45880" y="1828800"/>
            <a:ext cx="69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ff"/>
                </a:solidFill>
                <a:latin typeface="Times New Roman"/>
                <a:ea typeface="標楷體"/>
              </a:rPr>
              <a:t>「易燃性廢棄物再利用工廠申報管理辦法」</a:t>
            </a:r>
            <a:endParaRPr b="1" lang="en-US" sz="43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124000" y="5229360"/>
            <a:ext cx="6019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濟部工業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條文內容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(</a:t>
            </a: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續五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9640" y="1989000"/>
          <a:ext cx="8229600" cy="3183120"/>
        </p:xfrm>
        <a:graphic>
          <a:graphicData uri="http://schemas.openxmlformats.org/drawingml/2006/table">
            <a:tbl>
              <a:tblPr/>
              <a:tblGrid>
                <a:gridCol w="1008000"/>
                <a:gridCol w="792360"/>
                <a:gridCol w="642924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類別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    文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43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文內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3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本辦法自中華民國一百年二月一日施行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3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辦法施行日期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pic>
        <p:nvPicPr>
          <p:cNvPr id="159" name="Picture 23" descr="MC900339248[1]"/>
          <p:cNvPicPr/>
          <p:nvPr/>
        </p:nvPicPr>
        <p:blipFill>
          <a:blip r:embed="rId1"/>
          <a:stretch/>
        </p:blipFill>
        <p:spPr>
          <a:xfrm>
            <a:off x="7020000" y="5229360"/>
            <a:ext cx="1288800" cy="1290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4" descr="MC900304045[1]"/>
          <p:cNvPicPr/>
          <p:nvPr/>
        </p:nvPicPr>
        <p:blipFill>
          <a:blip r:embed="rId2"/>
          <a:stretch/>
        </p:blipFill>
        <p:spPr>
          <a:xfrm>
            <a:off x="6300720" y="5734080"/>
            <a:ext cx="6001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條文內容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(</a:t>
            </a: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續六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1989000"/>
          <a:ext cx="8229600" cy="3299040"/>
        </p:xfrm>
        <a:graphic>
          <a:graphicData uri="http://schemas.openxmlformats.org/drawingml/2006/table">
            <a:tbl>
              <a:tblPr/>
              <a:tblGrid>
                <a:gridCol w="1008000"/>
                <a:gridCol w="792360"/>
                <a:gridCol w="642924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類別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    文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55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工廠管理輔導法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3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管機關應令其限期改善、補辦或申報，屆期不改善、補辦或申報者，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處工廠負責人新臺幣一萬元以上五萬元以下罰鍰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；仍不遵行者，得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按次連續處罰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3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未申報或申報不完整未改善之處理方式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pic>
        <p:nvPicPr>
          <p:cNvPr id="163" name="Picture 23" descr="MC900339248[1]"/>
          <p:cNvPicPr/>
          <p:nvPr/>
        </p:nvPicPr>
        <p:blipFill>
          <a:blip r:embed="rId1"/>
          <a:stretch/>
        </p:blipFill>
        <p:spPr>
          <a:xfrm>
            <a:off x="7099200" y="5516640"/>
            <a:ext cx="1289160" cy="129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4" descr="MC900304045[1]"/>
          <p:cNvPicPr/>
          <p:nvPr/>
        </p:nvPicPr>
        <p:blipFill>
          <a:blip r:embed="rId2"/>
          <a:stretch/>
        </p:blipFill>
        <p:spPr>
          <a:xfrm>
            <a:off x="6300720" y="5850000"/>
            <a:ext cx="6001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33cc"/>
                </a:solidFill>
                <a:latin typeface="Times New Roman"/>
              </a:rPr>
              <a:t>易燃性廢棄物再利用申報表</a:t>
            </a:r>
            <a:endParaRPr b="1" lang="en-US" sz="3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6" name="Text Box 312"/>
          <p:cNvSpPr/>
          <p:nvPr/>
        </p:nvSpPr>
        <p:spPr>
          <a:xfrm>
            <a:off x="717120" y="119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華康中圓體"/>
              </a:rPr>
              <a:t>一、基本資料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1557360"/>
          <a:ext cx="8229600" cy="5052960"/>
        </p:xfrm>
        <a:graphic>
          <a:graphicData uri="http://schemas.openxmlformats.org/drawingml/2006/table">
            <a:tbl>
              <a:tblPr/>
              <a:tblGrid>
                <a:gridCol w="1366920"/>
                <a:gridCol w="2633400"/>
                <a:gridCol w="1413000"/>
                <a:gridCol w="2816280"/>
              </a:tblGrid>
              <a:tr h="30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一、申報單位基本資料                                            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申報日期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_____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______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工廠名稱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統一編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工廠地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負責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姓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身分證字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環保聯絡人姓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聯絡電話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傳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電子郵件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信箱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易燃性廢棄物貯存容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（公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□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桶裝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____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公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___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只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□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槽裝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____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公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___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只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□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其它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_______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公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行業別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名稱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貯存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消防設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□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滅火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___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只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□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消防栓箱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___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具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□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自動撒水設備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□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消防砂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□</a:t>
                      </a: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其它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____________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廠商用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易燃性廢棄物再利用製程流程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請以方塊流程圖說明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Times New Roman"/>
              </a:rPr>
              <a:t>易燃性廢棄物再利用申報表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33cc"/>
                </a:solidFill>
                <a:latin typeface="Times New Roman"/>
              </a:rPr>
              <a:t>續一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華康中圓體"/>
              </a:rPr>
              <a:t>二、易燃性廢棄物申報表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916280"/>
          <a:ext cx="8353440" cy="3770280"/>
        </p:xfrm>
        <a:graphic>
          <a:graphicData uri="http://schemas.openxmlformats.org/drawingml/2006/table">
            <a:tbl>
              <a:tblPr/>
              <a:tblGrid>
                <a:gridCol w="647640"/>
                <a:gridCol w="1224000"/>
                <a:gridCol w="1224000"/>
                <a:gridCol w="1297080"/>
                <a:gridCol w="1295280"/>
                <a:gridCol w="1440000"/>
                <a:gridCol w="1225440"/>
              </a:tblGrid>
              <a:tr h="6426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二、易燃性廢棄物明細                                                 申報日期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_____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______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月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18000" rIns="18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編號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廢棄物種類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廢棄物名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前月廠內暫存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公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當月廢棄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收受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公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當月廢棄物再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利用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公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當月廠內暫存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公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11280" y="5950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註：當月暫存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=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前月暫存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+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月收售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-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當月再利用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作業流程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560" y="1267920"/>
            <a:ext cx="8893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直轄市、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管機關辦理事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999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受理收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999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資料確認，並於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每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日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確認完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ts val="2999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資格確認－確認是否使用易燃性廢棄物為原料從事製造、加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ts val="2999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時程確認－確認是否於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每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日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申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ts val="2999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正確性確認－確認申報表是否有遺漏，並至環保署事業廢棄物管制系統資料核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999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函文廠商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於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日內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補正或建檔、歸檔及列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999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每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日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轉知相關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勞檢單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消防單位、環保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999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得實場抽查或配合相關單位檢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每月確認應申報工廠之名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作業流程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75" name="Picture 33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632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資料核對─環保署申報資料核對</a:t>
            </a:r>
            <a:br>
              <a:rPr sz="3600"/>
            </a:b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684360" y="1268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e5"/>
                </a:solidFill>
                <a:latin typeface="Times New Roman"/>
                <a:ea typeface="標楷體"/>
              </a:rPr>
              <a:t>查詢再利用機構之管制編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http://waste.epa.gov.tw/prog/IndexFrame.asp?Func=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5761080" cy="4535280"/>
          </a:xfrm>
          <a:prstGeom prst="rect">
            <a:avLst/>
          </a:prstGeom>
          <a:ln w="0">
            <a:noFill/>
          </a:ln>
        </p:spPr>
      </p:pic>
      <p:sp>
        <p:nvSpPr>
          <p:cNvPr id="179" name="橢圓 5"/>
          <p:cNvSpPr/>
          <p:nvPr/>
        </p:nvSpPr>
        <p:spPr>
          <a:xfrm>
            <a:off x="3392640" y="4114800"/>
            <a:ext cx="115236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916360" cy="4384800"/>
          </a:xfrm>
          <a:prstGeom prst="rect">
            <a:avLst/>
          </a:prstGeom>
          <a:ln w="0">
            <a:noFill/>
          </a:ln>
        </p:spPr>
      </p:pic>
      <p:sp>
        <p:nvSpPr>
          <p:cNvPr id="181" name="向右箭號 9"/>
          <p:cNvSpPr/>
          <p:nvPr/>
        </p:nvSpPr>
        <p:spPr>
          <a:xfrm>
            <a:off x="5940360" y="4005360"/>
            <a:ext cx="287280" cy="93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橢圓 5"/>
          <p:cNvSpPr/>
          <p:nvPr/>
        </p:nvSpPr>
        <p:spPr>
          <a:xfrm>
            <a:off x="6156360" y="3429000"/>
            <a:ext cx="2879640" cy="360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資料核對─申報資料核對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684360" y="1268280"/>
            <a:ext cx="59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e5"/>
                </a:solidFill>
                <a:latin typeface="Times New Roman"/>
                <a:ea typeface="標楷體"/>
              </a:rPr>
              <a:t>登入事業廢棄物管制資訊網進行查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en-US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1"/>
              </a:rPr>
              <a:t>http://waste1.epa.gov.tw/iwms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6985080" cy="4700520"/>
          </a:xfrm>
          <a:prstGeom prst="rect">
            <a:avLst/>
          </a:prstGeom>
          <a:ln w="0">
            <a:noFill/>
          </a:ln>
        </p:spPr>
      </p:pic>
      <p:sp>
        <p:nvSpPr>
          <p:cNvPr id="186" name="橢圓 5"/>
          <p:cNvSpPr/>
          <p:nvPr/>
        </p:nvSpPr>
        <p:spPr>
          <a:xfrm>
            <a:off x="900000" y="3573360"/>
            <a:ext cx="144000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字方塊 6"/>
          <p:cNvSpPr/>
          <p:nvPr/>
        </p:nvSpPr>
        <p:spPr>
          <a:xfrm>
            <a:off x="205092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Arial"/>
                <a:ea typeface="標楷體"/>
              </a:rPr>
              <a:t>填入自然人憑證帳號及密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資料核對─申報資料核對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684360" y="1268280"/>
            <a:ext cx="55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e5"/>
                </a:solidFill>
                <a:latin typeface="Times New Roman"/>
                <a:ea typeface="標楷體"/>
              </a:rPr>
              <a:t>選申報查詢</a:t>
            </a:r>
            <a:r>
              <a:rPr b="0" lang="en-US" sz="2400" spc="-1" strike="noStrike">
                <a:solidFill>
                  <a:srgbClr val="0000e5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e5"/>
                </a:solidFill>
                <a:latin typeface="Times New Roman"/>
                <a:ea typeface="標楷體"/>
              </a:rPr>
              <a:t>廠內即時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貯存查詢</a:t>
            </a:r>
            <a:r>
              <a:rPr b="0" lang="en-US" sz="2400" spc="-1" strike="noStrike">
                <a:solidFill>
                  <a:srgbClr val="0000e5"/>
                </a:solidFill>
                <a:latin typeface="Times New Roman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e5"/>
                </a:solidFill>
                <a:latin typeface="Times New Roman"/>
                <a:ea typeface="標楷體"/>
              </a:rPr>
              <a:t>各縣市</a:t>
            </a:r>
            <a:r>
              <a:rPr b="0" lang="en-US" sz="2400" spc="-1" strike="noStrike">
                <a:solidFill>
                  <a:srgbClr val="0000e5"/>
                </a:solidFill>
                <a:latin typeface="Times New Roman"/>
                <a:ea typeface="標楷體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50920" y="1758960"/>
            <a:ext cx="8713800" cy="4962600"/>
          </a:xfrm>
          <a:prstGeom prst="rect">
            <a:avLst/>
          </a:prstGeom>
          <a:ln w="0">
            <a:noFill/>
          </a:ln>
        </p:spPr>
      </p:pic>
      <p:grpSp>
        <p:nvGrpSpPr>
          <p:cNvPr id="191" name="群組 9"/>
          <p:cNvGrpSpPr/>
          <p:nvPr/>
        </p:nvGrpSpPr>
        <p:grpSpPr>
          <a:xfrm>
            <a:off x="539640" y="2349360"/>
            <a:ext cx="1389600" cy="503280"/>
            <a:chOff x="539640" y="2349360"/>
            <a:chExt cx="1389600" cy="503280"/>
          </a:xfrm>
        </p:grpSpPr>
        <p:sp>
          <p:nvSpPr>
            <p:cNvPr id="192" name="橢圓 5"/>
            <p:cNvSpPr/>
            <p:nvPr/>
          </p:nvSpPr>
          <p:spPr>
            <a:xfrm>
              <a:off x="539640" y="2637000"/>
              <a:ext cx="1151640" cy="21564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字方塊 7"/>
            <p:cNvSpPr/>
            <p:nvPr/>
          </p:nvSpPr>
          <p:spPr>
            <a:xfrm>
              <a:off x="1622160" y="234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群組 10"/>
          <p:cNvGrpSpPr/>
          <p:nvPr/>
        </p:nvGrpSpPr>
        <p:grpSpPr>
          <a:xfrm>
            <a:off x="2268360" y="5216400"/>
            <a:ext cx="1605600" cy="588960"/>
            <a:chOff x="2268360" y="5216400"/>
            <a:chExt cx="1605600" cy="588960"/>
          </a:xfrm>
        </p:grpSpPr>
        <p:sp>
          <p:nvSpPr>
            <p:cNvPr id="195" name="橢圓 6"/>
            <p:cNvSpPr/>
            <p:nvPr/>
          </p:nvSpPr>
          <p:spPr>
            <a:xfrm>
              <a:off x="2268360" y="5507280"/>
              <a:ext cx="1583640" cy="29808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字方塊 8"/>
            <p:cNvSpPr/>
            <p:nvPr/>
          </p:nvSpPr>
          <p:spPr>
            <a:xfrm>
              <a:off x="3566880" y="5216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95280" y="2787480"/>
            <a:ext cx="8388360" cy="40262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資料核對─申報資料核對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503280" y="1092240"/>
            <a:ext cx="86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e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選查詢日期</a:t>
            </a:r>
            <a:r>
              <a:rPr b="0" lang="en-US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建議由查詢申報月之</a:t>
            </a:r>
            <a:r>
              <a:rPr b="0" lang="en-US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1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日到隔月</a:t>
            </a:r>
            <a:r>
              <a:rPr b="0" lang="en-US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6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日以後</a:t>
            </a:r>
            <a:r>
              <a:rPr b="0" lang="en-US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查詢縣市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直接採用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全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查詢事業廢棄物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資料別選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全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e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查詢對象填入該被查機構之管制編號後分別以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再利用者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及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中間處理者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進行查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e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e5"/>
                </a:solidFill>
                <a:latin typeface="Times New Roman"/>
                <a:ea typeface="標楷體"/>
              </a:rPr>
              <a:t>點選傳送資料進行查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橢圓 8"/>
          <p:cNvSpPr/>
          <p:nvPr/>
        </p:nvSpPr>
        <p:spPr>
          <a:xfrm>
            <a:off x="3708360" y="3219480"/>
            <a:ext cx="172728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字方塊 9"/>
          <p:cNvSpPr/>
          <p:nvPr/>
        </p:nvSpPr>
        <p:spPr>
          <a:xfrm>
            <a:off x="5116680" y="2955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橢圓 10"/>
          <p:cNvSpPr/>
          <p:nvPr/>
        </p:nvSpPr>
        <p:spPr>
          <a:xfrm>
            <a:off x="3708360" y="3436920"/>
            <a:ext cx="71928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字方塊 11"/>
          <p:cNvSpPr/>
          <p:nvPr/>
        </p:nvSpPr>
        <p:spPr>
          <a:xfrm>
            <a:off x="4358880" y="343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字方塊 12"/>
          <p:cNvSpPr/>
          <p:nvPr/>
        </p:nvSpPr>
        <p:spPr>
          <a:xfrm>
            <a:off x="4358160" y="401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字方塊 13"/>
          <p:cNvSpPr/>
          <p:nvPr/>
        </p:nvSpPr>
        <p:spPr>
          <a:xfrm>
            <a:off x="5869440" y="437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橢圓 14"/>
          <p:cNvSpPr/>
          <p:nvPr/>
        </p:nvSpPr>
        <p:spPr>
          <a:xfrm>
            <a:off x="3708360" y="4084560"/>
            <a:ext cx="71928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橢圓 15"/>
          <p:cNvSpPr/>
          <p:nvPr/>
        </p:nvSpPr>
        <p:spPr>
          <a:xfrm>
            <a:off x="5148360" y="4371840"/>
            <a:ext cx="64764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橢圓 16"/>
          <p:cNvSpPr/>
          <p:nvPr/>
        </p:nvSpPr>
        <p:spPr>
          <a:xfrm>
            <a:off x="5148360" y="5524560"/>
            <a:ext cx="647640" cy="261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字方塊 17"/>
          <p:cNvSpPr/>
          <p:nvPr/>
        </p:nvSpPr>
        <p:spPr>
          <a:xfrm>
            <a:off x="5797800" y="51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簡報大綱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2920" y="1412640"/>
            <a:ext cx="7210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立法依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辦法架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條文內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申報表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作業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資料核對─環保署申報資料核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新增應申報工廠檢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其他事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資料核對─申報資料核對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684360" y="1268280"/>
            <a:ext cx="55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e5"/>
                </a:solidFill>
                <a:latin typeface="Times New Roman"/>
                <a:ea typeface="標楷體"/>
              </a:rPr>
              <a:t>查詢結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2232000"/>
          </a:xfrm>
          <a:prstGeom prst="rect">
            <a:avLst/>
          </a:prstGeom>
          <a:ln w="0">
            <a:noFill/>
          </a:ln>
        </p:spPr>
      </p:pic>
      <p:sp>
        <p:nvSpPr>
          <p:cNvPr id="213" name="矩形 5"/>
          <p:cNvSpPr/>
          <p:nvPr/>
        </p:nvSpPr>
        <p:spPr>
          <a:xfrm>
            <a:off x="539640" y="3141720"/>
            <a:ext cx="936720" cy="287280"/>
          </a:xfrm>
          <a:prstGeom prst="rect">
            <a:avLst/>
          </a:prstGeom>
          <a:solidFill>
            <a:srgbClr val="ccffcc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橢圓 16"/>
          <p:cNvSpPr/>
          <p:nvPr/>
        </p:nvSpPr>
        <p:spPr>
          <a:xfrm>
            <a:off x="7451640" y="3284640"/>
            <a:ext cx="647640" cy="261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字方塊 6"/>
          <p:cNvSpPr/>
          <p:nvPr/>
        </p:nvSpPr>
        <p:spPr>
          <a:xfrm>
            <a:off x="6877080" y="40114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Arial"/>
                <a:ea typeface="標楷體"/>
              </a:rPr>
              <a:t>暫存量申報確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每月確認應申報工廠名單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5092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查詢再利用廠屬環保主管機關核發之再利用身份者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e5"/>
                </a:solidFill>
                <a:latin typeface="Times New Roman"/>
              </a:rPr>
              <a:t>登入事業廢棄物管制資訊網後選「審查作業</a:t>
            </a:r>
            <a:r>
              <a:rPr b="0" lang="en-US" sz="1800" spc="-1" strike="noStrike">
                <a:solidFill>
                  <a:srgbClr val="0000e5"/>
                </a:solidFill>
                <a:latin typeface="Times New Roman"/>
              </a:rPr>
              <a:t>/</a:t>
            </a:r>
            <a:r>
              <a:rPr b="0" lang="zh-TW" sz="1800" spc="-1" strike="noStrike">
                <a:solidFill>
                  <a:srgbClr val="0000e5"/>
                </a:solidFill>
                <a:latin typeface="Times New Roman"/>
              </a:rPr>
              <a:t>公民營廢棄物清除處理許可核發管理統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8701200" cy="4581360"/>
          </a:xfrm>
          <a:prstGeom prst="rect">
            <a:avLst/>
          </a:prstGeom>
          <a:ln w="0">
            <a:noFill/>
          </a:ln>
        </p:spPr>
      </p:pic>
      <p:sp>
        <p:nvSpPr>
          <p:cNvPr id="219" name="橢圓 8"/>
          <p:cNvSpPr/>
          <p:nvPr/>
        </p:nvSpPr>
        <p:spPr>
          <a:xfrm>
            <a:off x="468360" y="5013360"/>
            <a:ext cx="172728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字方塊 9"/>
          <p:cNvSpPr/>
          <p:nvPr/>
        </p:nvSpPr>
        <p:spPr>
          <a:xfrm>
            <a:off x="1825200" y="457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橢圓 8"/>
          <p:cNvSpPr/>
          <p:nvPr/>
        </p:nvSpPr>
        <p:spPr>
          <a:xfrm>
            <a:off x="2771640" y="5661000"/>
            <a:ext cx="2376720" cy="289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字方塊 9"/>
          <p:cNvSpPr/>
          <p:nvPr/>
        </p:nvSpPr>
        <p:spPr>
          <a:xfrm>
            <a:off x="5076720" y="544500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每月確認應申報工廠名單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進入系統後選「查詢資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許可核發證照查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EW)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橢圓 8"/>
          <p:cNvSpPr/>
          <p:nvPr/>
        </p:nvSpPr>
        <p:spPr>
          <a:xfrm>
            <a:off x="3492360" y="3357720"/>
            <a:ext cx="1440000" cy="261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字方塊 9"/>
          <p:cNvSpPr/>
          <p:nvPr/>
        </p:nvSpPr>
        <p:spPr>
          <a:xfrm>
            <a:off x="500652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橢圓 8"/>
          <p:cNvSpPr/>
          <p:nvPr/>
        </p:nvSpPr>
        <p:spPr>
          <a:xfrm>
            <a:off x="3564000" y="4508640"/>
            <a:ext cx="2160360" cy="261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字方塊 9"/>
          <p:cNvSpPr/>
          <p:nvPr/>
        </p:nvSpPr>
        <p:spPr>
          <a:xfrm>
            <a:off x="5651640" y="42926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281800" cy="5342040"/>
          </a:xfrm>
          <a:prstGeom prst="rect">
            <a:avLst/>
          </a:prstGeom>
          <a:ln w="0">
            <a:noFill/>
          </a:ln>
        </p:spPr>
      </p:pic>
      <p:sp>
        <p:nvSpPr>
          <p:cNvPr id="230" name="橢圓 8"/>
          <p:cNvSpPr/>
          <p:nvPr/>
        </p:nvSpPr>
        <p:spPr>
          <a:xfrm>
            <a:off x="179280" y="3068640"/>
            <a:ext cx="1152720" cy="339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字方塊 9"/>
          <p:cNvSpPr/>
          <p:nvPr/>
        </p:nvSpPr>
        <p:spPr>
          <a:xfrm>
            <a:off x="1116000" y="2781360"/>
            <a:ext cx="5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橢圓 8"/>
          <p:cNvSpPr/>
          <p:nvPr/>
        </p:nvSpPr>
        <p:spPr>
          <a:xfrm>
            <a:off x="3005280" y="3112920"/>
            <a:ext cx="172692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字方塊 9"/>
          <p:cNvSpPr/>
          <p:nvPr/>
        </p:nvSpPr>
        <p:spPr>
          <a:xfrm>
            <a:off x="471924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68360" y="2879640"/>
            <a:ext cx="8567640" cy="3978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每月確認應申報工廠名單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125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99"/>
              </a:spcBef>
              <a:buClr>
                <a:srgbClr val="00007d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選定縣市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499"/>
              </a:spcBef>
              <a:buClr>
                <a:srgbClr val="00007d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機構種類選擇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處理機構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清理機構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分別進行下列查詢動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499"/>
              </a:spcBef>
              <a:buClr>
                <a:srgbClr val="00007d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廢棄物代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填入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-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499"/>
              </a:spcBef>
              <a:buClr>
                <a:srgbClr val="00007d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點選開始查詢進行查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spcBef>
                <a:spcPts val="499"/>
              </a:spcBef>
              <a:buClr>
                <a:srgbClr val="00007d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橢圓 8"/>
          <p:cNvSpPr/>
          <p:nvPr/>
        </p:nvSpPr>
        <p:spPr>
          <a:xfrm>
            <a:off x="687240" y="3102120"/>
            <a:ext cx="1727280" cy="261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字方塊 9"/>
          <p:cNvSpPr/>
          <p:nvPr/>
        </p:nvSpPr>
        <p:spPr>
          <a:xfrm>
            <a:off x="23428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橢圓 8"/>
          <p:cNvSpPr/>
          <p:nvPr/>
        </p:nvSpPr>
        <p:spPr>
          <a:xfrm>
            <a:off x="270000" y="4211640"/>
            <a:ext cx="273528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字方塊 9"/>
          <p:cNvSpPr/>
          <p:nvPr/>
        </p:nvSpPr>
        <p:spPr>
          <a:xfrm>
            <a:off x="291888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橢圓 8"/>
          <p:cNvSpPr/>
          <p:nvPr/>
        </p:nvSpPr>
        <p:spPr>
          <a:xfrm>
            <a:off x="4284720" y="5516640"/>
            <a:ext cx="863640" cy="261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字方塊 9"/>
          <p:cNvSpPr/>
          <p:nvPr/>
        </p:nvSpPr>
        <p:spPr>
          <a:xfrm>
            <a:off x="4932360" y="522936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橢圓 8"/>
          <p:cNvSpPr/>
          <p:nvPr/>
        </p:nvSpPr>
        <p:spPr>
          <a:xfrm>
            <a:off x="684360" y="3357720"/>
            <a:ext cx="1726920" cy="261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字方塊 9"/>
          <p:cNvSpPr/>
          <p:nvPr/>
        </p:nvSpPr>
        <p:spPr>
          <a:xfrm>
            <a:off x="2340000" y="32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每月確認應申報工廠名單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6" name="橢圓 8"/>
          <p:cNvSpPr/>
          <p:nvPr/>
        </p:nvSpPr>
        <p:spPr>
          <a:xfrm>
            <a:off x="415800" y="4834080"/>
            <a:ext cx="1727280" cy="261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字方塊 9"/>
          <p:cNvSpPr/>
          <p:nvPr/>
        </p:nvSpPr>
        <p:spPr>
          <a:xfrm>
            <a:off x="1825200" y="457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09080" cy="1530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395280" y="3538440"/>
            <a:ext cx="8209080" cy="3254400"/>
          </a:xfrm>
          <a:prstGeom prst="rect">
            <a:avLst/>
          </a:prstGeom>
          <a:ln w="0">
            <a:noFill/>
          </a:ln>
        </p:spPr>
      </p:pic>
      <p:sp>
        <p:nvSpPr>
          <p:cNvPr id="250" name="內容版面配置區 2"/>
          <p:cNvSpPr/>
          <p:nvPr/>
        </p:nvSpPr>
        <p:spPr>
          <a:xfrm>
            <a:off x="324000" y="1125360"/>
            <a:ext cx="84960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點選查詢結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查看各廠之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處理方式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zh-TW" sz="20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排除許可過期者及作為燃料、輔助燃料、焚化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等處理方式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向下箭號 10"/>
          <p:cNvSpPr/>
          <p:nvPr/>
        </p:nvSpPr>
        <p:spPr>
          <a:xfrm>
            <a:off x="3419640" y="3141720"/>
            <a:ext cx="2089080" cy="358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橢圓 8"/>
          <p:cNvSpPr/>
          <p:nvPr/>
        </p:nvSpPr>
        <p:spPr>
          <a:xfrm>
            <a:off x="684360" y="2492280"/>
            <a:ext cx="64764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字方塊 9"/>
          <p:cNvSpPr/>
          <p:nvPr/>
        </p:nvSpPr>
        <p:spPr>
          <a:xfrm>
            <a:off x="119016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橢圓 8"/>
          <p:cNvSpPr/>
          <p:nvPr/>
        </p:nvSpPr>
        <p:spPr>
          <a:xfrm>
            <a:off x="1258920" y="6521400"/>
            <a:ext cx="705816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字方塊 9"/>
          <p:cNvSpPr/>
          <p:nvPr/>
        </p:nvSpPr>
        <p:spPr>
          <a:xfrm>
            <a:off x="8246520" y="638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每月確認應申報工廠名單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4000" y="1125360"/>
            <a:ext cx="8640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查詢再利用廠屬其他目的事業主管機關核發之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再利用身份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者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e5"/>
                </a:solidFill>
                <a:latin typeface="Times New Roman"/>
              </a:rPr>
              <a:t>登入事業廢棄物管制資訊網後選「審查作業</a:t>
            </a:r>
            <a:r>
              <a:rPr b="0" lang="en-US" sz="1800" spc="-1" strike="noStrike">
                <a:solidFill>
                  <a:srgbClr val="0000e5"/>
                </a:solidFill>
                <a:latin typeface="Times New Roman"/>
              </a:rPr>
              <a:t>/</a:t>
            </a:r>
            <a:r>
              <a:rPr b="0" lang="zh-TW" sz="1800" spc="-1" strike="noStrike">
                <a:solidFill>
                  <a:srgbClr val="0000e5"/>
                </a:solidFill>
                <a:latin typeface="Times New Roman"/>
              </a:rPr>
              <a:t>再利用許可審查結果複合查詢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8" descr="圖1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791240"/>
          </a:xfrm>
          <a:prstGeom prst="rect">
            <a:avLst/>
          </a:prstGeom>
          <a:ln w="0">
            <a:noFill/>
          </a:ln>
        </p:spPr>
      </p:pic>
      <p:sp>
        <p:nvSpPr>
          <p:cNvPr id="259" name="橢圓 8"/>
          <p:cNvSpPr/>
          <p:nvPr/>
        </p:nvSpPr>
        <p:spPr>
          <a:xfrm>
            <a:off x="415800" y="4724280"/>
            <a:ext cx="172728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字方塊 9"/>
          <p:cNvSpPr/>
          <p:nvPr/>
        </p:nvSpPr>
        <p:spPr>
          <a:xfrm>
            <a:off x="182448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8"/>
          <p:cNvSpPr/>
          <p:nvPr/>
        </p:nvSpPr>
        <p:spPr>
          <a:xfrm>
            <a:off x="2928960" y="5419800"/>
            <a:ext cx="2089080" cy="360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字方塊 9"/>
          <p:cNvSpPr/>
          <p:nvPr/>
        </p:nvSpPr>
        <p:spPr>
          <a:xfrm>
            <a:off x="486108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" descr="圖2"/>
          <p:cNvPicPr/>
          <p:nvPr/>
        </p:nvPicPr>
        <p:blipFill>
          <a:blip r:embed="rId1"/>
          <a:stretch/>
        </p:blipFill>
        <p:spPr>
          <a:xfrm>
            <a:off x="395280" y="2079720"/>
            <a:ext cx="8353440" cy="473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每月確認應申報工廠名單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400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e5"/>
                </a:solidFill>
                <a:latin typeface="Times New Roman"/>
              </a:rPr>
              <a:t>以廢棄物代碼分別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-0301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-0302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-0303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</a:rPr>
              <a:t>及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-0399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</a:rPr>
              <a:t>（易燃性事業廢棄物）進行查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橢圓 8"/>
          <p:cNvSpPr/>
          <p:nvPr/>
        </p:nvSpPr>
        <p:spPr>
          <a:xfrm>
            <a:off x="4643280" y="3716280"/>
            <a:ext cx="151308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字方塊 9"/>
          <p:cNvSpPr/>
          <p:nvPr/>
        </p:nvSpPr>
        <p:spPr>
          <a:xfrm>
            <a:off x="5869440" y="342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0" descr="圖3"/>
          <p:cNvPicPr/>
          <p:nvPr/>
        </p:nvPicPr>
        <p:blipFill>
          <a:blip r:embed="rId1"/>
          <a:stretch/>
        </p:blipFill>
        <p:spPr>
          <a:xfrm>
            <a:off x="468360" y="2090880"/>
            <a:ext cx="8064360" cy="45781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每月確認應申報工廠名單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16640" indent="-116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Times New Roman"/>
              </a:rPr>
              <a:t>1.</a:t>
            </a:r>
            <a:r>
              <a:rPr b="0" lang="zh-TW" sz="1800" spc="-1" strike="noStrike">
                <a:solidFill>
                  <a:srgbClr val="0000e5"/>
                </a:solidFill>
                <a:latin typeface="Times New Roman"/>
              </a:rPr>
              <a:t>點選許可文件編號查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Times New Roman"/>
              </a:rPr>
              <a:t>2.</a:t>
            </a:r>
            <a:r>
              <a:rPr b="0" lang="zh-TW" sz="1800" spc="-1" strike="noStrike">
                <a:solidFill>
                  <a:srgbClr val="0000e5"/>
                </a:solidFill>
                <a:latin typeface="Times New Roman"/>
              </a:rPr>
              <a:t>進入各廠資料查看，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</a:rPr>
              <a:t>排除許可過期者及再利用用途為燃料、輔助燃料</a:t>
            </a:r>
            <a:r>
              <a:rPr b="0" lang="zh-TW" sz="1800" spc="-1" strike="noStrike">
                <a:solidFill>
                  <a:srgbClr val="0000e5"/>
                </a:solidFill>
                <a:latin typeface="Times New Roman"/>
              </a:rPr>
              <a:t>等方式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e5"/>
                </a:solidFill>
                <a:latin typeface="Times New Roman"/>
              </a:rPr>
              <a:t>(</a:t>
            </a:r>
            <a:r>
              <a:rPr b="0" lang="zh-TW" sz="1800" spc="-1" strike="noStrike">
                <a:solidFill>
                  <a:srgbClr val="0000e5"/>
                </a:solidFill>
                <a:latin typeface="Times New Roman"/>
              </a:rPr>
              <a:t>詳如後圖</a:t>
            </a:r>
            <a:r>
              <a:rPr b="0" lang="en-US" sz="1800" spc="-1" strike="noStrike">
                <a:solidFill>
                  <a:srgbClr val="0000e5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-1911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橢圓 8"/>
          <p:cNvSpPr/>
          <p:nvPr/>
        </p:nvSpPr>
        <p:spPr>
          <a:xfrm>
            <a:off x="2556000" y="3840120"/>
            <a:ext cx="172692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字方塊 9"/>
          <p:cNvSpPr/>
          <p:nvPr/>
        </p:nvSpPr>
        <p:spPr>
          <a:xfrm>
            <a:off x="399780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54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每月確認應申報工廠名單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125360"/>
            <a:ext cx="8820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e5"/>
                </a:solidFill>
                <a:latin typeface="Times New Roman"/>
              </a:rPr>
              <a:t>進入各廠資料查看，</a:t>
            </a:r>
            <a:r>
              <a:rPr b="0" lang="zh-TW" sz="2000" spc="-1" strike="noStrike">
                <a:solidFill>
                  <a:srgbClr val="cc0000"/>
                </a:solidFill>
                <a:latin typeface="Times New Roman"/>
              </a:rPr>
              <a:t>排除許可過期者及再利用用途為燃料、輔助燃料</a:t>
            </a:r>
            <a:r>
              <a:rPr b="0" lang="zh-TW" sz="2000" spc="-1" strike="noStrike">
                <a:solidFill>
                  <a:srgbClr val="0000e5"/>
                </a:solidFill>
                <a:latin typeface="Times New Roman"/>
              </a:rPr>
              <a:t>等方式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橢圓 8"/>
          <p:cNvSpPr/>
          <p:nvPr/>
        </p:nvSpPr>
        <p:spPr>
          <a:xfrm>
            <a:off x="4140360" y="2806560"/>
            <a:ext cx="2808000" cy="262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字方塊 9"/>
          <p:cNvSpPr/>
          <p:nvPr/>
        </p:nvSpPr>
        <p:spPr>
          <a:xfrm>
            <a:off x="6999480" y="27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橢圓 8"/>
          <p:cNvSpPr/>
          <p:nvPr/>
        </p:nvSpPr>
        <p:spPr>
          <a:xfrm>
            <a:off x="7350120" y="5962680"/>
            <a:ext cx="100800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字方塊 9"/>
          <p:cNvSpPr/>
          <p:nvPr/>
        </p:nvSpPr>
        <p:spPr>
          <a:xfrm>
            <a:off x="8390160" y="579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標題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新增應申報工廠檢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50920" y="1268280"/>
          <a:ext cx="8851680" cy="5265720"/>
        </p:xfrm>
        <a:graphic>
          <a:graphicData uri="http://schemas.openxmlformats.org/drawingml/2006/table">
            <a:tbl>
              <a:tblPr/>
              <a:tblGrid>
                <a:gridCol w="669960"/>
                <a:gridCol w="3124080"/>
                <a:gridCol w="689040"/>
                <a:gridCol w="723960"/>
                <a:gridCol w="2974680"/>
                <a:gridCol w="669960"/>
              </a:tblGrid>
              <a:tr h="525600"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別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再利用工廠名稱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廠家數小計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別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再利用工廠名稱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廠家數小計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63520"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基隆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總合溶劑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南投縣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昶笙福企業股份有限公司南投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3520"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新北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松益化工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台中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祥祐資源再生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 rowSpan="8"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桃園縣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三合化學股份有限公司楊梅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8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彰化縣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榮成紙業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5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亞洲化學股份有限公司楊梅一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廣質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順倉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世全塗料有限公司二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易增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鴻勝化學科技股份有限公司彰濱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勁錸科技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台南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九九峰企業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永源化工原料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雄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圓立環保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6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侑晉科技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鈺辰企業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rowSpan="4"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竹縣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友發化工股份有限公司新竹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4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鼎加工業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純聚股份有限公司高雄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向陽科技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李長榮化學工業股份有限公司林園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峻源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達和清宇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 rowSpan="2">
                  <a:txBody>
                    <a:bodyPr lIns="10800" rIns="10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苗栗縣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長春石油化學股份有限公司苗栗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總計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dd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皕靖科技股份有限公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2" name="文字方塊 3"/>
          <p:cNvSpPr/>
          <p:nvPr/>
        </p:nvSpPr>
        <p:spPr>
          <a:xfrm>
            <a:off x="7394760" y="651996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查詢日期：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.5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立法依據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工廠管理輔導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日修正發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法源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第二十三條     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工廠使用經各目的事業主管機關核准或許可再利用之</a:t>
            </a:r>
            <a:r>
              <a:rPr b="1" lang="zh-TW" sz="1600" spc="-1" strike="noStrike" u="sng">
                <a:solidFill>
                  <a:srgbClr val="cc0000"/>
                </a:solidFill>
                <a:uFillTx/>
                <a:latin typeface="Times New Roman"/>
              </a:rPr>
              <a:t>易燃性廢棄物為原料從事製造、加工者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，應按月向直轄市、縣（市）主管機關申報該廢棄物之種類及原料儲存量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前項應申報之</a:t>
            </a:r>
            <a:r>
              <a:rPr b="1" lang="zh-TW" sz="1400" spc="-1" strike="noStrike">
                <a:solidFill>
                  <a:srgbClr val="cc0000"/>
                </a:solidFill>
                <a:latin typeface="Times New Roman"/>
              </a:rPr>
              <a:t>內容、期限、方式、程序及其他應遵行事項之辦法，由中央主管機關定之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直轄市、縣（市）主管機關對第一項工廠資料應建檔列管；其</a:t>
            </a:r>
            <a:r>
              <a:rPr b="1" lang="zh-TW" sz="1400" spc="-1" strike="noStrike">
                <a:solidFill>
                  <a:srgbClr val="cc0000"/>
                </a:solidFill>
                <a:latin typeface="Times New Roman"/>
              </a:rPr>
              <a:t>發現工廠之原料有異常囤積時，應即通知原核准或許可之目的事業主管機關及有關機關處理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第一項工廠之原料漏溢或燃燒致有污染環境之虞時，主管機關得指定範圍，限期令其清除、處理；屆期仍未清除、處理者，該範圍內之原料視同廢棄物，依廢棄物清理法規定處理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罰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第三十一條   工廠有下列情形之一者，連主管機關應令其</a:t>
            </a:r>
            <a:r>
              <a:rPr b="1" lang="zh-TW" sz="1400" spc="-1" strike="noStrike">
                <a:solidFill>
                  <a:srgbClr val="cc0000"/>
                </a:solidFill>
                <a:latin typeface="Times New Roman"/>
              </a:rPr>
              <a:t>限期改善、補辦或申報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，屆期不改善、補辦或申報者，處工廠負責人新臺幣</a:t>
            </a:r>
            <a:r>
              <a:rPr b="1" lang="zh-TW" sz="1400" spc="-1" strike="noStrike">
                <a:solidFill>
                  <a:srgbClr val="cc0000"/>
                </a:solidFill>
                <a:latin typeface="Times New Roman"/>
              </a:rPr>
              <a:t>一萬元以上五萬元以下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罰鍰；仍不遵行者，</a:t>
            </a:r>
            <a:r>
              <a:rPr b="1" lang="zh-TW" sz="1400" spc="-1" strike="noStrike">
                <a:solidFill>
                  <a:srgbClr val="cc0000"/>
                </a:solidFill>
                <a:latin typeface="Times New Roman"/>
              </a:rPr>
              <a:t>得按次續處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九、違反第二十三條第一項規定，未按月申報其原料儲存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易燃性廢棄物再利用工廠申報管理辦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日訂定發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其他事項 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0000"/>
                </a:solidFill>
                <a:latin typeface="Times New Roman"/>
              </a:rPr>
              <a:t>事業廢棄物管制中心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使用者需先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</a:rPr>
              <a:t>向行政院環境保護署申請全國事業廢棄物管制系統之權限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申請表格請直接於該網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ttp://waste1.epa.gov.tw/iwms/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下載。另使用者於網站登錄前需親至臨近之戶政事務所並辦理自然人憑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可跨縣市辦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以便使用自然人憑證進行該網站之登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0000"/>
                </a:solidFill>
                <a:latin typeface="Times New Roman"/>
              </a:rPr>
              <a:t>本案連繫窗口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黃星富先生，連絡電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02)27541255#273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: sfhuang@moeaidb.gov.t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李怡蒼先生，連絡電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02)29106067#60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: tsang@tgpf.org.t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img_mount"/>
          <p:cNvPicPr/>
          <p:nvPr/>
        </p:nvPicPr>
        <p:blipFill>
          <a:blip r:embed="rId1"/>
          <a:stretch/>
        </p:blipFill>
        <p:spPr>
          <a:xfrm>
            <a:off x="250920" y="3543480"/>
            <a:ext cx="7746840" cy="33145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7"/>
          <p:cNvSpPr/>
          <p:nvPr/>
        </p:nvSpPr>
        <p:spPr>
          <a:xfrm>
            <a:off x="3348000" y="1628640"/>
            <a:ext cx="43149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66ff"/>
                </a:solidFill>
                <a:latin typeface="Times New Roman"/>
                <a:ea typeface="標楷體"/>
              </a:rPr>
              <a:t>簡報結束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66ff"/>
                </a:solidFill>
                <a:latin typeface="Times New Roman"/>
                <a:ea typeface="標楷體"/>
              </a:rPr>
              <a:t>敬請指教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</a:rPr>
              <a:t>辦法架構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56240" y="523080"/>
            <a:ext cx="485280" cy="597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易燃性廢棄物再利用工廠申報管理辦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2050920" y="1916280"/>
            <a:ext cx="0" cy="38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2050920" y="5734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2050920" y="2781360"/>
            <a:ext cx="5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050920" y="1916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1569960" y="351648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2050920" y="414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554200" y="1628640"/>
            <a:ext cx="25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法源依據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　 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2554200" y="2565360"/>
            <a:ext cx="25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名詞定義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554200" y="3933720"/>
            <a:ext cx="25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報相關規定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554200" y="5516640"/>
            <a:ext cx="25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施行日期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5075280" y="414972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5292720" y="3429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5291280" y="342900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5"/>
          <p:cNvSpPr/>
          <p:nvPr/>
        </p:nvSpPr>
        <p:spPr>
          <a:xfrm>
            <a:off x="5291280" y="414972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6"/>
          <p:cNvSpPr/>
          <p:nvPr/>
        </p:nvSpPr>
        <p:spPr>
          <a:xfrm>
            <a:off x="5291280" y="4894200"/>
            <a:ext cx="218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5506920" y="3213000"/>
            <a:ext cx="15112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報內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5075280" y="1844640"/>
            <a:ext cx="2808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7883640" y="1628640"/>
            <a:ext cx="792000" cy="97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§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 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0"/>
          <p:cNvSpPr/>
          <p:nvPr/>
        </p:nvSpPr>
        <p:spPr>
          <a:xfrm>
            <a:off x="5075280" y="2781360"/>
            <a:ext cx="2808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7883640" y="2565360"/>
            <a:ext cx="792000" cy="97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§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 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506920" y="3933720"/>
            <a:ext cx="15112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方式及期限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5506920" y="4678200"/>
            <a:ext cx="15112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補正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6"/>
          <p:cNvSpPr/>
          <p:nvPr/>
        </p:nvSpPr>
        <p:spPr>
          <a:xfrm>
            <a:off x="5075280" y="5732640"/>
            <a:ext cx="2808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7883640" y="5516640"/>
            <a:ext cx="792000" cy="97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§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 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8"/>
          <p:cNvSpPr/>
          <p:nvPr/>
        </p:nvSpPr>
        <p:spPr>
          <a:xfrm>
            <a:off x="7020000" y="350028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9"/>
          <p:cNvSpPr/>
          <p:nvPr/>
        </p:nvSpPr>
        <p:spPr>
          <a:xfrm>
            <a:off x="7885080" y="3284640"/>
            <a:ext cx="792360" cy="97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§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 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0"/>
          <p:cNvSpPr/>
          <p:nvPr/>
        </p:nvSpPr>
        <p:spPr>
          <a:xfrm>
            <a:off x="7020000" y="414972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1"/>
          <p:cNvSpPr/>
          <p:nvPr/>
        </p:nvSpPr>
        <p:spPr>
          <a:xfrm>
            <a:off x="7885080" y="3933720"/>
            <a:ext cx="792360" cy="97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§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 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2"/>
          <p:cNvSpPr/>
          <p:nvPr/>
        </p:nvSpPr>
        <p:spPr>
          <a:xfrm>
            <a:off x="7020000" y="486900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3"/>
          <p:cNvSpPr/>
          <p:nvPr/>
        </p:nvSpPr>
        <p:spPr>
          <a:xfrm>
            <a:off x="7885080" y="4653000"/>
            <a:ext cx="792360" cy="97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§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 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5"/>
          <p:cNvSpPr/>
          <p:nvPr/>
        </p:nvSpPr>
        <p:spPr>
          <a:xfrm>
            <a:off x="7885080" y="1197000"/>
            <a:ext cx="7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0000"/>
                </a:solidFill>
                <a:uFillTx/>
                <a:latin typeface="Arial"/>
                <a:ea typeface="華康中黑體"/>
              </a:rPr>
              <a:t>條次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　 　　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條文內容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989000"/>
          <a:ext cx="8229600" cy="28180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6284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類別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    文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4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文內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本辦法依工廠管理輔導法（以下簡稱本法）第二十三條第二項規定訂定之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本辦法法源依據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43" descr="j0300840"/>
          <p:cNvPicPr/>
          <p:nvPr/>
        </p:nvPicPr>
        <p:blipFill>
          <a:blip r:embed="rId1"/>
          <a:stretch/>
        </p:blipFill>
        <p:spPr>
          <a:xfrm>
            <a:off x="6588000" y="4653000"/>
            <a:ext cx="18147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條文內容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(</a:t>
            </a: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續一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413000"/>
          <a:ext cx="8425080" cy="4537080"/>
        </p:xfrm>
        <a:graphic>
          <a:graphicData uri="http://schemas.openxmlformats.org/drawingml/2006/table">
            <a:tbl>
              <a:tblPr/>
              <a:tblGrid>
                <a:gridCol w="1032120"/>
                <a:gridCol w="958680"/>
                <a:gridCol w="643428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類別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    文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9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文內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本辦法所稱易燃性廢棄物，其種類如下：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、 廢液</a:t>
                      </a:r>
                      <a:r>
                        <a:rPr b="1" lang="zh-TW" sz="2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閃火點小於攝氏六十度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不包含乙醇體積濃度小於百分之二十四之酒類廢棄物）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二、 固體廢棄物於常溫常壓可因</a:t>
                      </a:r>
                      <a:r>
                        <a:rPr b="1" lang="zh-TW" sz="2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摩擦、吸水或自發性化學反應而起火燃燒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引起危害者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三、可直接釋出氧，激發物質燃燒之</a:t>
                      </a:r>
                      <a:r>
                        <a:rPr b="1" lang="zh-TW" sz="2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廢強氧化劑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5040" indent="-63504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四、其他易燃性事業廢棄物混合物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7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易燃性廢棄物名詞定義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611280" y="616572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註：依據「有害事業廢棄物認定標準」之易燃性事業廢棄物定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條文內容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(</a:t>
            </a: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續二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11280" y="1557360"/>
          <a:ext cx="8229600" cy="4832280"/>
        </p:xfrm>
        <a:graphic>
          <a:graphicData uri="http://schemas.openxmlformats.org/drawingml/2006/table">
            <a:tbl>
              <a:tblPr/>
              <a:tblGrid>
                <a:gridCol w="1008000"/>
                <a:gridCol w="865080"/>
                <a:gridCol w="63565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類別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    文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44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文內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以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易燃性廢棄物為原料再利用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之工廠，應按月申報之內容如下：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、再利用工廠基本資料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二、易燃性廢棄物種類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三、易燃性廢棄物收受數量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四、易燃性廢棄物再利用量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五、易燃性廢棄物儲存量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前項申報格式如附表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92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訂定其應申報之事項及格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條文內容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(</a:t>
            </a: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續三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557360"/>
          <a:ext cx="8064360" cy="3840120"/>
        </p:xfrm>
        <a:graphic>
          <a:graphicData uri="http://schemas.openxmlformats.org/drawingml/2006/table">
            <a:tbl>
              <a:tblPr/>
              <a:tblGrid>
                <a:gridCol w="988920"/>
                <a:gridCol w="892080"/>
                <a:gridCol w="6183360"/>
              </a:tblGrid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類別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    文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68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文內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再利用工廠應依前條規定於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每月五日前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，以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書面掛號郵寄方式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向工廠所在地之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直轄市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、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縣（市）主管機關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，申報其前月易燃性廢棄物使用情形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工廠申報之方式與期限，未申報者，應於期限內申報，否則依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「工廠管理輔導法」第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31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條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處理之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pic>
        <p:nvPicPr>
          <p:cNvPr id="153" name="Picture 21" descr="j0195384"/>
          <p:cNvPicPr/>
          <p:nvPr/>
        </p:nvPicPr>
        <p:blipFill>
          <a:blip r:embed="rId1"/>
          <a:stretch/>
        </p:blipFill>
        <p:spPr>
          <a:xfrm>
            <a:off x="7064280" y="5168880"/>
            <a:ext cx="1468440" cy="1500120"/>
          </a:xfrm>
          <a:prstGeom prst="rect">
            <a:avLst/>
          </a:prstGeom>
          <a:ln w="0">
            <a:noFill/>
          </a:ln>
        </p:spPr>
      </p:pic>
      <p:sp>
        <p:nvSpPr>
          <p:cNvPr id="154" name="圓角化對角線角落矩形 23"/>
          <p:cNvSpPr/>
          <p:nvPr/>
        </p:nvSpPr>
        <p:spPr>
          <a:xfrm>
            <a:off x="1116000" y="5662440"/>
            <a:ext cx="5616720" cy="719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50760" dir="54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標楷體"/>
                <a:ea typeface="標楷體"/>
              </a:rPr>
              <a:t>註：網路申報系統已在設計規劃，預計</a:t>
            </a:r>
            <a:r>
              <a:rPr b="1" lang="en-US" sz="1800" spc="-1" strike="noStrike">
                <a:solidFill>
                  <a:srgbClr val="0070c0"/>
                </a:solidFill>
                <a:latin typeface="標楷體"/>
                <a:ea typeface="標楷體"/>
              </a:rPr>
              <a:t>101</a:t>
            </a:r>
            <a:r>
              <a:rPr b="1" lang="zh-TW" sz="1800" spc="-1" strike="noStrike">
                <a:solidFill>
                  <a:srgbClr val="0070c0"/>
                </a:solidFill>
                <a:latin typeface="標楷體"/>
                <a:ea typeface="標楷體"/>
              </a:rPr>
              <a:t>年將改為網路方式進行申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條文內容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(</a:t>
            </a:r>
            <a:r>
              <a:rPr b="1" lang="zh-TW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續四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11280" y="1700280"/>
          <a:ext cx="8229600" cy="4287600"/>
        </p:xfrm>
        <a:graphic>
          <a:graphicData uri="http://schemas.openxmlformats.org/drawingml/2006/table">
            <a:tbl>
              <a:tblPr/>
              <a:tblGrid>
                <a:gridCol w="1008000"/>
                <a:gridCol w="792000"/>
                <a:gridCol w="642960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類別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次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    文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9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條文內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再利用工廠依第三條規定申報之資料如有填報不全或不一致情形，直轄市、縣（市）主管機關得請申報人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於十五日內完成補正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並提供證明資料；如仍未依規定修正內容者，視同申報內容不完整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說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黑體"/>
                        </a:rPr>
                        <a:t>§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申報資料補正相關規定，限期內未補正者，依「工廠管理輔導法」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第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31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條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規定處理之，略以：「處工廠負責人新臺幣</a:t>
                      </a:r>
                      <a:r>
                        <a:rPr b="1" lang="zh-TW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標楷體"/>
                        </a:rPr>
                        <a:t>一萬元以上五萬元以下罰鍰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；仍不遵行者，得按次連續處罰」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09:43:12Z</dcterms:created>
  <dc:creator>李怡蒼</dc:creator>
  <dc:description/>
  <dc:language>en-US</dc:language>
  <cp:lastModifiedBy>hsufu</cp:lastModifiedBy>
  <dcterms:modified xsi:type="dcterms:W3CDTF">2011-05-05T01:04:18Z</dcterms:modified>
  <cp:revision>327</cp:revision>
  <dc:subject/>
  <dc:title>「易燃性廢棄物再利用工廠申報管理辦法（草案）」研商會</dc:title>
</cp:coreProperties>
</file>